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44A0-6D10-480E-9B18-48406678E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DBF2-DAE4-4368-8F18-9C4F63501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5C7-3A31-4281-9883-EEDD2138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AC3-AFED-4CCB-8578-50897E82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AED-4798-4AE1-A7F6-C1131511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BF1-8E95-426A-B7E4-BE3B85CC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E9E-8977-4AC3-B13F-E5F7453C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430-E99A-414A-B0BA-46C4D568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E4C-44F8-4B93-A988-41DAFFE5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BB3-F554-4ED0-BE4A-27179B47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187-BC73-4C72-ABBB-FCB115BD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1FD-C432-4F37-A9E2-929F7AA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3F1-CB12-406A-9C4E-924D078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A1F-815B-4577-A5C5-43A0531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98C3-1F21-4ADE-B400-DFE5D7352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3B73-BF0B-4F5B-B937-EA4837474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марта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7A79-F0EC-4FC6-A7CB-8E25038A7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рта 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2840" y="914400"/>
          <a:ext cx="8778600" cy="62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914400"/>
                    <a:ext cx="877860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03-01T04:50:20Z</dcterms:modified>
  <cp:revision>136</cp:revision>
  <dc:subject/>
  <dc:title>Презентация PowerPoint</dc:title>
</cp:coreProperties>
</file>